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DFA-EA3A-4889-B781-F5D9F813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C61-72C8-4B78-980B-D74D4F43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650-4A71-47D1-B053-B2A4944F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49B-BF97-493A-BA95-2D326174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61E-7569-46DB-9A4E-104AA088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452E-79D1-48AD-924A-B0488FE5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EAB-1517-46B4-88C8-863EDED6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69D-9960-4637-9702-337454D4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BB3-4A85-4CEA-BC64-459A6159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BC4-F437-432C-93F8-791D2BCD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2784-334C-4E72-8C97-4C5E95BA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7B7-0B26-45A4-AE22-72832AC1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FA52-C866-47B0-A915-41A1798A1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4343400" cy="2586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201600"/>
            <a:ext cx="3886200" cy="208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6320" y="4140360"/>
            <a:ext cx="3962160" cy="264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248520" y="3962520"/>
            <a:ext cx="2819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8-12-03T19:46:35Z</dcterms:modified>
  <cp:revision>9</cp:revision>
  <dc:subject/>
  <dc:title>Slide 1</dc:title>
</cp:coreProperties>
</file>